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EBD-A024-4798-B1AD-666767FD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560-6681-40BB-8093-9942E388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7A2-6C2A-4680-A048-318FD93E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835-5844-472C-9A4C-B0991689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A50F-77A8-4E43-9999-44E34290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5B7A-6D7C-4B06-9DE5-1F528089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F0E3-36AC-42D6-9308-2E4D2E79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E520-A191-4488-98D6-BA6F5CB0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7BA4-3B51-4B46-92F5-D43B02A4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9470-50EC-4C37-9B4D-2E349F09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2AD4-D7DE-43C1-A816-FA0C43EE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B73-3DB0-4F4C-86A3-AD7995D2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307D-C8D9-44BE-9A26-7315A451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C859-A19E-4280-AC25-D0A7CB9C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0310-C5A3-47C2-9E87-6193864C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FFEA-6CA8-4058-A767-D421D893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8D72-930E-45AD-B5CE-E6E24916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B33-B095-47B3-8161-ABADA7DF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CAA-9736-46F1-A225-C7BEB2F3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763-6293-471C-87B4-E7A51037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4F6-2084-4F41-BF22-EC36F401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9CC-0C45-406C-BB4A-181B3F55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5F9-743C-47D6-A0B8-569B8283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010-239C-4895-9513-BF27087D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F287-481D-480A-980F-C160EFDA80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9B69-0841-4A9A-9DEA-05126C342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agnosing Performance Overheads in the Xen Virtual Machine Environ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733920"/>
            <a:ext cx="3276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avind Menon Willy Zwaenepo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FL, Lausan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733920"/>
            <a:ext cx="5410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se Renato Sa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shio T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. (John) Janakira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P Labs, Palo Al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valuated configur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ux: no X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-380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 Driver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run application in privileged driver dom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-380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 Guest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un application in unprivileged guest domain interfaced to driver domain via I/O 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371600" y="4724280"/>
            <a:ext cx="7238880" cy="1752840"/>
            <a:chOff x="1371600" y="4724280"/>
            <a:chExt cx="7238880" cy="1752840"/>
          </a:xfrm>
        </p:grpSpPr>
        <p:sp>
          <p:nvSpPr>
            <p:cNvPr id="148" name=""/>
            <p:cNvSpPr/>
            <p:nvPr/>
          </p:nvSpPr>
          <p:spPr>
            <a:xfrm>
              <a:off x="1371600" y="4724280"/>
              <a:ext cx="3581280" cy="1752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5176800"/>
              <a:ext cx="838080" cy="339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8480" y="5742000"/>
              <a:ext cx="838080" cy="339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160" y="4724280"/>
              <a:ext cx="2362320" cy="17528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24480" y="5742000"/>
              <a:ext cx="838080" cy="339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0200" y="6024600"/>
              <a:ext cx="990360" cy="339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530600">
              <a:off x="3504960" y="5571720"/>
              <a:ext cx="533520" cy="113040"/>
            </a:xfrm>
            <a:prstGeom prst="leftRightArrow">
              <a:avLst>
                <a:gd name="adj1" fmla="val 50000"/>
                <a:gd name="adj2" fmla="val 93958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5855040"/>
              <a:ext cx="1143000" cy="169560"/>
            </a:xfrm>
            <a:prstGeom prst="leftRightArrow">
              <a:avLst>
                <a:gd name="adj1" fmla="val 50000"/>
                <a:gd name="adj2" fmla="val 134195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781880"/>
              <a:ext cx="23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/O Driver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6760" y="483732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uest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560" y="5517000"/>
              <a:ext cx="152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/O Chan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6160" y="602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68320" y="5176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rid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57420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57420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10000">
              <a:off x="2335680" y="5694120"/>
              <a:ext cx="508680" cy="152280"/>
            </a:xfrm>
            <a:prstGeom prst="leftRightArrow">
              <a:avLst>
                <a:gd name="adj1" fmla="val 50000"/>
                <a:gd name="adj2" fmla="val 66499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tworking micro-benchmar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streaming TCP connection per NIC (up to 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4280" y="1380960"/>
          <a:ext cx="8829720" cy="456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280" y="1380960"/>
                    <a:ext cx="8829720" cy="45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8600" y="5334120"/>
            <a:ext cx="8686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r receive throughput 75% of Linux through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est throughput 1/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1/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Linux through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eive – Xen Driver over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33523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iling shows slower instruction execution with Xen Driver than w/Linux (both use 100% CP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 TLB miss count 13 times hig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ruction TLB miss count 17 times hig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: 11% more instructions per byte transferred        (Xen virtual interrupts, driver hypercal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01640" y="690480"/>
          <a:ext cx="5408640" cy="289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1640" y="690480"/>
                    <a:ext cx="540864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eive – Xen Guest over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304776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 Guest configuration executes two times as many instructions as Xen Driver config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river domain (38%): overhead of bridg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Xen (27%): overhead of page remapp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14400" y="5181480"/>
            <a:ext cx="7238880" cy="1519200"/>
            <a:chOff x="914400" y="5181480"/>
            <a:chExt cx="7238880" cy="1519200"/>
          </a:xfrm>
        </p:grpSpPr>
        <p:sp>
          <p:nvSpPr>
            <p:cNvPr id="176" name=""/>
            <p:cNvSpPr/>
            <p:nvPr/>
          </p:nvSpPr>
          <p:spPr>
            <a:xfrm>
              <a:off x="914400" y="5181480"/>
              <a:ext cx="3581280" cy="1470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5573520"/>
              <a:ext cx="838080" cy="293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81280" y="6063480"/>
              <a:ext cx="838080" cy="293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90960" y="5181480"/>
              <a:ext cx="2362320" cy="15192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7280" y="6063480"/>
              <a:ext cx="838080" cy="293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6308640"/>
              <a:ext cx="990360" cy="2937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530600">
              <a:off x="3047760" y="5916240"/>
              <a:ext cx="533520" cy="97920"/>
            </a:xfrm>
            <a:prstGeom prst="leftRightArrow">
              <a:avLst>
                <a:gd name="adj1" fmla="val 50000"/>
                <a:gd name="adj2" fmla="val 108466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6161760"/>
              <a:ext cx="1143000" cy="146880"/>
            </a:xfrm>
            <a:prstGeom prst="leftRightArrow">
              <a:avLst>
                <a:gd name="adj1" fmla="val 50000"/>
                <a:gd name="adj2" fmla="val 15491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00200" y="523260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/O Driver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560" y="527940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uest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360" y="586836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/O Chan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18960" y="63075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09680" y="5575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rid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57600" y="6064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43600" y="6064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6210000">
              <a:off x="1912320" y="6011640"/>
              <a:ext cx="441000" cy="152280"/>
            </a:xfrm>
            <a:prstGeom prst="leftRightArrow">
              <a:avLst>
                <a:gd name="adj1" fmla="val 50000"/>
                <a:gd name="adj2" fmla="val 57651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1530360" y="380880"/>
          <a:ext cx="6005520" cy="322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380880"/>
                    <a:ext cx="6005520" cy="32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nsmit – Xen Guest over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 Guest: executes 6 times as many instructions as Xen driver config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tor of 2 as in Receive c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est instructions increase 2.7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tual NIC (vif2) in guest does not support       TCP offload capabilities of 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036800" y="474840"/>
          <a:ext cx="6887880" cy="3868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6800" y="474840"/>
                    <a:ext cx="688788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ggestions for improving X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able virtual NICs to utilize offload capabilities of physical 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icient support for packet demultiplexing in driver doma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Network virtualization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ugging using 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omalous network behavior in X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CP receive throughput in Xen changes with application buffer size (slow Pentium II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2133720"/>
          <a:ext cx="8534520" cy="4400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133720"/>
                    <a:ext cx="853452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bugging using Xenopro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0% kernel execution overhead incurred in socket buffer de-fragmenting routin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80880" y="2305080"/>
          <a:ext cx="8077320" cy="4552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305080"/>
                    <a:ext cx="807732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-fragmenting socket buff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6019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ux: insignificant fragmentation with streaming worklo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914400" y="2286000"/>
            <a:ext cx="8152920" cy="3428640"/>
            <a:chOff x="914400" y="2286000"/>
            <a:chExt cx="8152920" cy="3428640"/>
          </a:xfrm>
        </p:grpSpPr>
        <p:sp>
          <p:nvSpPr>
            <p:cNvPr id="213" name=""/>
            <p:cNvSpPr/>
            <p:nvPr/>
          </p:nvSpPr>
          <p:spPr>
            <a:xfrm flipV="1">
              <a:off x="1134720" y="5286240"/>
              <a:ext cx="705132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134720" y="3429000"/>
              <a:ext cx="705132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07080" y="4071960"/>
              <a:ext cx="514080" cy="714240"/>
            </a:xfrm>
            <a:prstGeom prst="downArrow">
              <a:avLst>
                <a:gd name="adj1" fmla="val 50000"/>
                <a:gd name="adj2" fmla="val 34734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2571840"/>
              <a:ext cx="337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Socket receive queu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91400" y="4143600"/>
              <a:ext cx="16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e-fragm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6905520" y="2086920"/>
              <a:ext cx="356760" cy="1469160"/>
            </a:xfrm>
            <a:custGeom>
              <a:avLst/>
              <a:gdLst>
                <a:gd name="textAreaLeft" fmla="*/ 227880 w 356760"/>
                <a:gd name="textAreaRight" fmla="*/ 357120 w 356760"/>
                <a:gd name="textAreaTop" fmla="*/ 38160 h 1469160"/>
                <a:gd name="textAreaBottom" fmla="*/ 1431000 h 146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96920" y="2286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Socket buffer (4 KB)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6464880" y="3813480"/>
              <a:ext cx="356760" cy="587520"/>
            </a:xfrm>
            <a:custGeom>
              <a:avLst/>
              <a:gdLst>
                <a:gd name="textAreaLeft" fmla="*/ 0 w 356760"/>
                <a:gd name="textAreaRight" fmla="*/ 128880 w 356760"/>
                <a:gd name="textAreaTop" fmla="*/ 15120 h 587520"/>
                <a:gd name="textAreaBottom" fmla="*/ 572400 h 58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49680" y="4357800"/>
              <a:ext cx="24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ata packet (MTU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30440" y="4929120"/>
              <a:ext cx="146880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95680" y="3071880"/>
              <a:ext cx="1468800" cy="78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95680" y="3071880"/>
              <a:ext cx="58716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72680" y="3071880"/>
              <a:ext cx="1468800" cy="78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49680" y="3071880"/>
              <a:ext cx="1469160" cy="78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72680" y="3071880"/>
              <a:ext cx="58716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49680" y="3071880"/>
              <a:ext cx="58752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68040" y="4929120"/>
              <a:ext cx="1469160" cy="78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68040" y="4929120"/>
              <a:ext cx="29376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57200" y="114300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enolinux (Linux on X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eived packets: 1500 bytes (MTU) out of 4 KB socket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e-sized socket buffers support remapping over I/O cha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rtual Machine Monitors (VMM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ing adoption for server appli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consolidation, co-located hos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tualization can affect application performance in unexpected 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enoprof useful for identifying major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enoprof to be included in official Xen and OProfile rel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to get it: http://xenoprof.sourceforge.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b server performance in X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5-66% lower peak throughput than Linux depending on Xen configu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95280" y="1662120"/>
          <a:ext cx="8086680" cy="404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662120"/>
                    <a:ext cx="80866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09480" y="56386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 VM-aware profiling to diagnose causes of performance 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ribu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enoprof – framework for VM-aware profiling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ing network virtualization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ugging performance anomaly using 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 virtualization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ugging using 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Xenoprof – profiling for V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ile applications running in VM environ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ibution of different domains (VMs) and          the VMM (Xen) routines to execution c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ile various hardware ev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 out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unction name        %Instructions     Modu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---------------------------------------------------------------------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mu_update          13                   Xen (VMM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r_handle_frame      8                   driver domain (Dom 0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cp_v4_rcv               5                   guest domain (Dom 1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Xenoprof – architecture (brief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d existing profilers (OProfile) to use Xenopr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oprof collects samples and coordinates profilers running in multiple doma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57200" y="1295280"/>
            <a:ext cx="7772400" cy="3276360"/>
            <a:chOff x="457200" y="1295280"/>
            <a:chExt cx="7772400" cy="3276360"/>
          </a:xfrm>
        </p:grpSpPr>
        <p:sp>
          <p:nvSpPr>
            <p:cNvPr id="101" name=""/>
            <p:cNvSpPr/>
            <p:nvPr/>
          </p:nvSpPr>
          <p:spPr>
            <a:xfrm>
              <a:off x="2057400" y="1295280"/>
              <a:ext cx="1295640" cy="144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10040" y="1752480"/>
              <a:ext cx="1143000" cy="9903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1800" y="3428640"/>
              <a:ext cx="3962520" cy="38124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5120" y="3047760"/>
              <a:ext cx="63244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129528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main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10040" y="1828440"/>
              <a:ext cx="1218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rofile   (extende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1120" y="34286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enopro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91120" y="1295280"/>
              <a:ext cx="1295280" cy="144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43400" y="1752480"/>
              <a:ext cx="1143000" cy="9903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440" y="1295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main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1828440"/>
              <a:ext cx="1219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rofile   (extende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00800" y="1295280"/>
              <a:ext cx="1295640" cy="144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3440" y="1752480"/>
              <a:ext cx="1143000" cy="9903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77120" y="129528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main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440" y="1828440"/>
              <a:ext cx="1218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rofile   (extende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" y="236196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omains (VM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520" y="34286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Xen V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190760"/>
              <a:ext cx="31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H/W performance count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62520" y="4267080"/>
              <a:ext cx="7621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05520" y="4267080"/>
              <a:ext cx="7621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640" y="2742840"/>
              <a:ext cx="228600" cy="762120"/>
            </a:xfrm>
            <a:prstGeom prst="upDownArrow">
              <a:avLst>
                <a:gd name="adj1" fmla="val 50000"/>
                <a:gd name="adj2" fmla="val 66368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3245400">
              <a:off x="2743200" y="3047400"/>
              <a:ext cx="990360" cy="228600"/>
            </a:xfrm>
            <a:prstGeom prst="leftRightArrow">
              <a:avLst>
                <a:gd name="adj1" fmla="val 50000"/>
                <a:gd name="adj2" fmla="val 8624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7767600">
              <a:off x="5867280" y="3047400"/>
              <a:ext cx="990360" cy="228600"/>
            </a:xfrm>
            <a:prstGeom prst="leftRightArrow">
              <a:avLst>
                <a:gd name="adj1" fmla="val 50000"/>
                <a:gd name="adj2" fmla="val 8624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 virtualization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ugging using 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Xen network I/O architec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vilege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river doma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rols physical 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5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unprivilege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uest doma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ses virtual NIC connected to driver domain via Xen I/O 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: I/O descriptor ring (shared memor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 Transfer: Page remapping (no copy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38080" y="990720"/>
            <a:ext cx="7238880" cy="2361960"/>
            <a:chOff x="838080" y="990720"/>
            <a:chExt cx="7238880" cy="2361960"/>
          </a:xfrm>
        </p:grpSpPr>
        <p:sp>
          <p:nvSpPr>
            <p:cNvPr id="129" name=""/>
            <p:cNvSpPr/>
            <p:nvPr/>
          </p:nvSpPr>
          <p:spPr>
            <a:xfrm>
              <a:off x="838080" y="990720"/>
              <a:ext cx="3581280" cy="2361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33360" y="1600200"/>
              <a:ext cx="838080" cy="456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04960" y="2361960"/>
              <a:ext cx="838080" cy="456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4640" y="990720"/>
              <a:ext cx="2362320" cy="23619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0960" y="2361960"/>
              <a:ext cx="838080" cy="456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2743200"/>
              <a:ext cx="990360" cy="4568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530600">
              <a:off x="2971080" y="2133000"/>
              <a:ext cx="533520" cy="152280"/>
            </a:xfrm>
            <a:prstGeom prst="leftRightArrow">
              <a:avLst>
                <a:gd name="adj1" fmla="val 50000"/>
                <a:gd name="adj2" fmla="val 69746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95680" y="2514600"/>
              <a:ext cx="1143000" cy="228240"/>
            </a:xfrm>
            <a:prstGeom prst="leftRightArrow">
              <a:avLst>
                <a:gd name="adj1" fmla="val 50000"/>
                <a:gd name="adj2" fmla="val 9969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106668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/O Driver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43240" y="114300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uest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040" y="20574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/O Chan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2640" y="27432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33360" y="1600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rid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1280" y="23619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67280" y="23619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6210000">
              <a:off x="1713960" y="2323800"/>
              <a:ext cx="685440" cy="152280"/>
            </a:xfrm>
            <a:prstGeom prst="leftRightArrow">
              <a:avLst>
                <a:gd name="adj1" fmla="val 50000"/>
                <a:gd name="adj2" fmla="val 8960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16:14Z</dcterms:created>
  <dc:creator>root</dc:creator>
  <dc:description/>
  <dc:language>en-US</dc:language>
  <cp:lastModifiedBy>yoshiotu</cp:lastModifiedBy>
  <dcterms:modified xsi:type="dcterms:W3CDTF">2005-06-11T12:45:38Z</dcterms:modified>
  <cp:revision>853</cp:revision>
  <dc:subject/>
  <dc:title>Diagnosing Performance Overheads in the Xen Virtual Machine Monitor</dc:title>
</cp:coreProperties>
</file>