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8CE-7ABA-4006-B536-4C76428E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A59-34A0-4627-BDD1-43A3B1AC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612-202A-44FA-B06C-B7297857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530-5A9C-46A1-B715-49AD159E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723D-D07F-42B6-B558-C4103A32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8288-849F-4825-A8F4-688CF24C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1BB2-4EF1-46FC-AB20-FCF9BA6B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0BA0-EF26-4937-A000-1D884556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ED1D-2F90-4296-AC9C-A494C82B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0D61-D7BB-4B36-B803-02F0318A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9608-B14E-4860-BA18-7736F41A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391-7BA2-4855-81D7-63794F25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D413-A4A9-4E35-A1CF-6A7F0362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33EA-893D-4101-A30D-F9E09DC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73F9-545A-434C-8301-3B4F34D3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7797-01F6-47B6-827F-9790F577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59C2-7EC9-432E-8412-60DA3027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4F1-C8C2-4888-85B2-58AAA524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799-DC0A-49B9-91BB-252ED276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30F-CCB4-4F68-B9B6-36D25A3E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700-B2C0-4CAB-B2F6-FBDA9A33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6D8-4916-471A-A181-686EB76E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388-8125-4654-8120-70EE746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78E-C7B2-4232-A629-1313D644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7217-78BA-449C-891B-AD5727B01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51B5-89F3-4CA5-8CAF-CB280FA20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agnosing Performance Overheads in the Xen Virtual Machine Environ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733920"/>
            <a:ext cx="3276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avind Menon Willy Zwaenepo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FL, Lausan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733920"/>
            <a:ext cx="5410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 Renato Sa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shio T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. (John) Janakira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P Labs, Palo A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aluated configu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ux: no X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Driver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run application in privileged driver dom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n application in unprivileged guest domain interfaced to driver domain via I/O 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71600" y="4724280"/>
            <a:ext cx="7238880" cy="1752840"/>
            <a:chOff x="1371600" y="4724280"/>
            <a:chExt cx="7238880" cy="1752840"/>
          </a:xfrm>
        </p:grpSpPr>
        <p:sp>
          <p:nvSpPr>
            <p:cNvPr id="148" name=""/>
            <p:cNvSpPr/>
            <p:nvPr/>
          </p:nvSpPr>
          <p:spPr>
            <a:xfrm>
              <a:off x="1371600" y="4724280"/>
              <a:ext cx="3581280" cy="1752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51768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57420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160" y="4724280"/>
              <a:ext cx="2362320" cy="17528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24480" y="57420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6024600"/>
              <a:ext cx="990360" cy="339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530600">
              <a:off x="3504960" y="5571720"/>
              <a:ext cx="533520" cy="113040"/>
            </a:xfrm>
            <a:prstGeom prst="leftRightArrow">
              <a:avLst>
                <a:gd name="adj1" fmla="val 50000"/>
                <a:gd name="adj2" fmla="val 9395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5855040"/>
              <a:ext cx="1143000" cy="169560"/>
            </a:xfrm>
            <a:prstGeom prst="leftRightArrow">
              <a:avLst>
                <a:gd name="adj1" fmla="val 50000"/>
                <a:gd name="adj2" fmla="val 134195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781880"/>
              <a:ext cx="23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6760" y="48373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560" y="5517000"/>
              <a:ext cx="15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160" y="602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68320" y="5176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5742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742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10000">
              <a:off x="2335680" y="5694120"/>
              <a:ext cx="508680" cy="152280"/>
            </a:xfrm>
            <a:prstGeom prst="leftRightArrow">
              <a:avLst>
                <a:gd name="adj1" fmla="val 50000"/>
                <a:gd name="adj2" fmla="val 66499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tworking micro-benchma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streaming TCP connection per NIC (up to 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4280" y="1380960"/>
          <a:ext cx="8829720" cy="456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1380960"/>
                    <a:ext cx="882972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8600" y="5334120"/>
            <a:ext cx="8686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r receive throughput 75% of Linux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est throughput 1/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1/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Linux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ive – Xen Driver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ling shows slower instruction execution with Xen Driver than w/Linux (both use 100% CP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TLB miss count 13 times hig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ion TLB miss count 17 times hig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: 11% more instructions per byte transferred        (Xen virtual interrupts, driver hyperca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01640" y="690480"/>
          <a:ext cx="5408640" cy="289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1640" y="690480"/>
                    <a:ext cx="540864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ive – Xen Guest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 configuration executes two times as many instructions as Xen Driver config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ver domain (38%): overhead of bridg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Xen (27%): overhead of page remapp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5181480"/>
            <a:ext cx="7238880" cy="1519200"/>
            <a:chOff x="914400" y="5181480"/>
            <a:chExt cx="7238880" cy="1519200"/>
          </a:xfrm>
        </p:grpSpPr>
        <p:sp>
          <p:nvSpPr>
            <p:cNvPr id="176" name=""/>
            <p:cNvSpPr/>
            <p:nvPr/>
          </p:nvSpPr>
          <p:spPr>
            <a:xfrm>
              <a:off x="914400" y="5181480"/>
              <a:ext cx="3581280" cy="147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557352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606348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90960" y="5181480"/>
              <a:ext cx="2362320" cy="1519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7280" y="606348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6308640"/>
              <a:ext cx="990360" cy="2937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530600">
              <a:off x="3047760" y="5916240"/>
              <a:ext cx="533520" cy="97920"/>
            </a:xfrm>
            <a:prstGeom prst="leftRightArrow">
              <a:avLst>
                <a:gd name="adj1" fmla="val 50000"/>
                <a:gd name="adj2" fmla="val 10846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6161760"/>
              <a:ext cx="1143000" cy="146880"/>
            </a:xfrm>
            <a:prstGeom prst="leftRightArrow">
              <a:avLst>
                <a:gd name="adj1" fmla="val 50000"/>
                <a:gd name="adj2" fmla="val 15491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00200" y="523260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560" y="52794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360" y="586836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8960" y="6307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9680" y="5575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7600" y="6064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43600" y="6064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6210000">
              <a:off x="1912320" y="6011640"/>
              <a:ext cx="441000" cy="152280"/>
            </a:xfrm>
            <a:prstGeom prst="leftRightArrow">
              <a:avLst>
                <a:gd name="adj1" fmla="val 50000"/>
                <a:gd name="adj2" fmla="val 57651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530360" y="380880"/>
          <a:ext cx="6005520" cy="322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380880"/>
                    <a:ext cx="6005520" cy="32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mit – Xen Guest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: executes 6 times as many instructions as Xen driver config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or of 2 as in Receive c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est instructions increase 2.7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tual NIC (vif2) in guest does not support       TCP offload capabilities of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36800" y="474840"/>
          <a:ext cx="6887880" cy="3868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6800" y="474840"/>
                    <a:ext cx="688788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 for improving X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able virtual NICs to utilize offload capabilities of physical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icient support for packet demultiplexing in driver dom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omalous network behavior in X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CP receive throughput in Xen changes with application buffer size (slow Pentium II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2133720"/>
          <a:ext cx="8534520" cy="440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133720"/>
                    <a:ext cx="853452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bugging using Xenopro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% kernel execution overhead incurred in socket buffer de-fragmenting routin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2305080"/>
          <a:ext cx="8077320" cy="4552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305080"/>
                    <a:ext cx="80773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-fragmenting socket buff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6019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ux: insignificant fragmentation with streaming worklo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14400" y="2286000"/>
            <a:ext cx="8152920" cy="3428640"/>
            <a:chOff x="914400" y="2286000"/>
            <a:chExt cx="8152920" cy="3428640"/>
          </a:xfrm>
        </p:grpSpPr>
        <p:sp>
          <p:nvSpPr>
            <p:cNvPr id="213" name=""/>
            <p:cNvSpPr/>
            <p:nvPr/>
          </p:nvSpPr>
          <p:spPr>
            <a:xfrm flipV="1">
              <a:off x="1134720" y="5286240"/>
              <a:ext cx="70513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134720" y="3429000"/>
              <a:ext cx="70513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7080" y="4071960"/>
              <a:ext cx="514080" cy="714240"/>
            </a:xfrm>
            <a:prstGeom prst="downArrow">
              <a:avLst>
                <a:gd name="adj1" fmla="val 50000"/>
                <a:gd name="adj2" fmla="val 34734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2571840"/>
              <a:ext cx="33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Socket receive queu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91400" y="4143600"/>
              <a:ext cx="16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e-fragm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6905520" y="2086920"/>
              <a:ext cx="356760" cy="1469160"/>
            </a:xfrm>
            <a:custGeom>
              <a:avLst/>
              <a:gdLst>
                <a:gd name="textAreaLeft" fmla="*/ 227880 w 356760"/>
                <a:gd name="textAreaRight" fmla="*/ 357120 w 356760"/>
                <a:gd name="textAreaTop" fmla="*/ 38160 h 1469160"/>
                <a:gd name="textAreaBottom" fmla="*/ 1431000 h 146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6920" y="2286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Socket buffer (4 KB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64880" y="3813480"/>
              <a:ext cx="356760" cy="587520"/>
            </a:xfrm>
            <a:custGeom>
              <a:avLst/>
              <a:gdLst>
                <a:gd name="textAreaLeft" fmla="*/ 0 w 356760"/>
                <a:gd name="textAreaRight" fmla="*/ 128880 w 356760"/>
                <a:gd name="textAreaTop" fmla="*/ 15120 h 587520"/>
                <a:gd name="textAreaBottom" fmla="*/ 572400 h 58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49680" y="4357800"/>
              <a:ext cx="24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ata packet (MTU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30440" y="4929120"/>
              <a:ext cx="146880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95680" y="3071880"/>
              <a:ext cx="146880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95680" y="3071880"/>
              <a:ext cx="5871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72680" y="3071880"/>
              <a:ext cx="146880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49680" y="3071880"/>
              <a:ext cx="146916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72680" y="3071880"/>
              <a:ext cx="5871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49680" y="3071880"/>
              <a:ext cx="58752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68040" y="4929120"/>
              <a:ext cx="146916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68040" y="4929120"/>
              <a:ext cx="2937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57200" y="11430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enolinux (Linux on X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eived packets: 1500 bytes (MTU) out of 4 KB socket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e-sized socket buffers support remapping over I/O 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tual Machine Monitors (VMM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ing adoption for server appl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consolidation, co-located ho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tualization can affect application performance in unexpected 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useful for identifying major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to be included in official Xen and OProfile rel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to get it: http://xenoprof.sourceforge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b server performance in X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5-66% lower peak throughput than Linux depending on Xen configu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1662120"/>
          <a:ext cx="8086680" cy="404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62120"/>
                    <a:ext cx="8086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09480" y="56386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VM-aware profiling to diagnose causes of performance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– framework for VM-aware profiling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ing 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performance anomaly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oprof – profiling for V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le applications running in VM enviro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ibution of different domains (VMs) and          the VMM (Xen) routines to execution c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ile various hardware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out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unction name        %Instructions     Modu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--------------------------------------------------------------------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mu_update          13                   Xen (VMM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r_handle_frame      8                   driver domain (Dom 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cp_v4_rcv               5                   guest domain (Dom 1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oprof – architecture (brief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 existing profilers (OProfile) to use Xenopr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oprof collects samples and coordinates profilers running in multiple doma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7200" y="1295280"/>
            <a:ext cx="7772400" cy="3276360"/>
            <a:chOff x="457200" y="1295280"/>
            <a:chExt cx="7772400" cy="3276360"/>
          </a:xfrm>
        </p:grpSpPr>
        <p:sp>
          <p:nvSpPr>
            <p:cNvPr id="101" name=""/>
            <p:cNvSpPr/>
            <p:nvPr/>
          </p:nvSpPr>
          <p:spPr>
            <a:xfrm>
              <a:off x="2057400" y="1295280"/>
              <a:ext cx="129564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1004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3428640"/>
              <a:ext cx="3962520" cy="38124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3047760"/>
              <a:ext cx="63244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12952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10040" y="1828440"/>
              <a:ext cx="1218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3428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enopr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1295280"/>
              <a:ext cx="129528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4340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440" y="1295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1828440"/>
              <a:ext cx="1219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1295280"/>
              <a:ext cx="129564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44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77120" y="12952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440" y="1828440"/>
              <a:ext cx="1218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236196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omains (VM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34286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Xen V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19076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/W performance count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62520" y="4267080"/>
              <a:ext cx="762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4267080"/>
              <a:ext cx="762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640" y="274284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3245400">
              <a:off x="2743200" y="3047400"/>
              <a:ext cx="990360" cy="228600"/>
            </a:xfrm>
            <a:prstGeom prst="leftRightArrow">
              <a:avLst>
                <a:gd name="adj1" fmla="val 50000"/>
                <a:gd name="adj2" fmla="val 8624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7767600">
              <a:off x="5867280" y="3047400"/>
              <a:ext cx="990360" cy="228600"/>
            </a:xfrm>
            <a:prstGeom prst="leftRightArrow">
              <a:avLst>
                <a:gd name="adj1" fmla="val 50000"/>
                <a:gd name="adj2" fmla="val 8624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 network I/O archite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ilege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river dom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ols physical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5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unprivilege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uest dom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s virtual NIC connected to driver domain via Xen I/O 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: I/O descriptor ring (shared memo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Transfer: Page remapping (no copy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8080" y="990720"/>
            <a:ext cx="7238880" cy="2361960"/>
            <a:chOff x="838080" y="990720"/>
            <a:chExt cx="7238880" cy="2361960"/>
          </a:xfrm>
        </p:grpSpPr>
        <p:sp>
          <p:nvSpPr>
            <p:cNvPr id="129" name=""/>
            <p:cNvSpPr/>
            <p:nvPr/>
          </p:nvSpPr>
          <p:spPr>
            <a:xfrm>
              <a:off x="838080" y="990720"/>
              <a:ext cx="3581280" cy="2361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3360" y="160020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04960" y="236196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4640" y="990720"/>
              <a:ext cx="2362320" cy="23619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0960" y="236196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2743200"/>
              <a:ext cx="990360" cy="4568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530600">
              <a:off x="2971080" y="2133000"/>
              <a:ext cx="533520" cy="152280"/>
            </a:xfrm>
            <a:prstGeom prst="leftRightArrow">
              <a:avLst>
                <a:gd name="adj1" fmla="val 50000"/>
                <a:gd name="adj2" fmla="val 6974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95680" y="2514600"/>
              <a:ext cx="1143000" cy="228240"/>
            </a:xfrm>
            <a:prstGeom prst="leftRightArrow">
              <a:avLst>
                <a:gd name="adj1" fmla="val 50000"/>
                <a:gd name="adj2" fmla="val 9969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106668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3240" y="11430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040" y="20574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2640" y="27432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33360" y="1600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23619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67280" y="23619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6210000">
              <a:off x="1713960" y="2323800"/>
              <a:ext cx="685440" cy="152280"/>
            </a:xfrm>
            <a:prstGeom prst="leftRightArrow">
              <a:avLst>
                <a:gd name="adj1" fmla="val 50000"/>
                <a:gd name="adj2" fmla="val 8960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16:14Z</dcterms:created>
  <dc:creator>root</dc:creator>
  <dc:description/>
  <dc:language>en-US</dc:language>
  <cp:lastModifiedBy>yoshiotu</cp:lastModifiedBy>
  <dcterms:modified xsi:type="dcterms:W3CDTF">2005-06-11T12:45:38Z</dcterms:modified>
  <cp:revision>853</cp:revision>
  <dc:subject/>
  <dc:title>Diagnosing Performance Overheads in the Xen Virtual Machine Monitor</dc:title>
</cp:coreProperties>
</file>